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10F-FC78-43DF-883D-9C185492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8F8-BFBD-4EBB-98BC-330CC65F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4AC-4AAF-41EB-BD0B-82783A90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98C-1C4B-46CC-9C5D-809380F9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E8D-2761-4AC0-8D1E-662BDFFC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E7A-3717-488A-97EA-525C3C3C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884-C44D-45B9-AD10-A946FB10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A10-23CE-47E9-8039-CBC8249E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3BE-8F03-489D-BE3F-CE434294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D2B-9A81-4CD6-9D86-AB4D5DFA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B44-1325-4C88-955D-34075A85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A75-A19A-4B56-935A-815A30B6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391E-C33B-4D6F-8DAF-47F41322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5530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Haiku </a:t>
            </a:r>
            <a:br>
              <a:rPr sz="8000"/>
            </a:b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Poet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088978"/>
          <p:cNvPicPr/>
          <p:nvPr/>
        </p:nvPicPr>
        <p:blipFill>
          <a:blip r:embed="rId1"/>
          <a:stretch/>
        </p:blipFill>
        <p:spPr>
          <a:xfrm>
            <a:off x="3200400" y="3124080"/>
            <a:ext cx="25970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n the following slides are pictures of seas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ow it is your turn to write some Haiku poe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In your journal, write a Haiku poem for each sc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hunderstorm%20orange%20thunderhead%20GOOD"/>
          <p:cNvPicPr/>
          <p:nvPr/>
        </p:nvPicPr>
        <p:blipFill>
          <a:blip r:embed="rId1"/>
          <a:stretch/>
        </p:blipFill>
        <p:spPr>
          <a:xfrm>
            <a:off x="1143000" y="457200"/>
            <a:ext cx="7238880" cy="542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nature%20(12)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5371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Nature%2015"/>
          <p:cNvPicPr/>
          <p:nvPr/>
        </p:nvPicPr>
        <p:blipFill>
          <a:blip r:embed="rId1"/>
          <a:stretch/>
        </p:blipFill>
        <p:spPr>
          <a:xfrm>
            <a:off x="1219320" y="762120"/>
            <a:ext cx="7086600" cy="531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Sep%204%20Rockwood%20nature%20IV"/>
          <p:cNvPicPr/>
          <p:nvPr/>
        </p:nvPicPr>
        <p:blipFill>
          <a:blip r:embed="rId1"/>
          <a:stretch/>
        </p:blipFill>
        <p:spPr>
          <a:xfrm>
            <a:off x="1371600" y="838080"/>
            <a:ext cx="6591240" cy="4943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FallTrees_wl"/>
          <p:cNvPicPr/>
          <p:nvPr/>
        </p:nvPicPr>
        <p:blipFill>
          <a:blip r:embed="rId1"/>
          <a:stretch/>
        </p:blipFill>
        <p:spPr>
          <a:xfrm>
            <a:off x="685800" y="533520"/>
            <a:ext cx="7802640" cy="585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Haiku, but has 5,7,5,7,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a tries to evoke emotion, and is usually about heartache o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own about the following sli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ts2.mm.bing.net/images/thumbnail.aspx?q=1291517636041&amp;id=5bfe486181105b52d8e96c4e3703b5a0&amp;url=http%3a%2f%2fwww.lovepicturesoflove.net%2flove-picture-tender-pedrosimoes7-love.jpg"/>
          <p:cNvPicPr/>
          <p:nvPr/>
        </p:nvPicPr>
        <p:blipFill>
          <a:blip r:embed="rId1"/>
          <a:stretch/>
        </p:blipFill>
        <p:spPr>
          <a:xfrm>
            <a:off x="1371600" y="20520"/>
            <a:ext cx="61722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31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Haiku is also called nature or seasonal haik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nature%20(12)"/>
          <p:cNvPicPr/>
          <p:nvPr/>
        </p:nvPicPr>
        <p:blipFill>
          <a:blip r:embed="rId1"/>
          <a:stretch/>
        </p:blipFill>
        <p:spPr>
          <a:xfrm>
            <a:off x="1676520" y="1981080"/>
            <a:ext cx="6019560" cy="451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Haiku is usually written in the present tense and focuses on nature (seasons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Defi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 unrhymed Japanese verse consisting of three unrhymed lines of five, seven, and five syllables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(5, 7, 5)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or 17 syllables in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Helpful Hint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aiku is generally not written in one long run on sentence. It is generally written in two part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You have a fragment on the first or the last line, then you have the body of the haiku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6000" spc="-1" strike="noStrike">
                <a:solidFill>
                  <a:srgbClr val="9900cc"/>
                </a:solidFill>
                <a:latin typeface="Comic Sans MS"/>
              </a:rPr>
              <a:t>Winter sun--</a:t>
            </a:r>
            <a:br>
              <a:rPr sz="6000"/>
            </a:br>
            <a:r>
              <a:rPr b="0" i="1" lang="en-US" sz="6000" spc="-1" strike="noStrike">
                <a:solidFill>
                  <a:srgbClr val="9900cc"/>
                </a:solidFill>
                <a:latin typeface="Comic Sans MS"/>
              </a:rPr>
              <a:t>a cyclist pedals</a:t>
            </a:r>
            <a:br>
              <a:rPr sz="6000"/>
            </a:br>
            <a:r>
              <a:rPr b="0" i="1" lang="en-US" sz="6000" spc="-1" strike="noStrike">
                <a:solidFill>
                  <a:srgbClr val="9900cc"/>
                </a:solidFill>
                <a:latin typeface="Comic Sans MS"/>
              </a:rPr>
              <a:t>against the wind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00cc"/>
                </a:solidFill>
                <a:latin typeface="Arial"/>
              </a:rPr>
              <a:t>Salt-waves caress san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00cc"/>
                </a:solidFill>
                <a:latin typeface="Arial"/>
              </a:rPr>
              <a:t>tickling my toes and hear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00cc"/>
                </a:solidFill>
                <a:latin typeface="Arial"/>
              </a:rPr>
              <a:t>in their short-spun wak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Pink cherry blossom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Cast shimmering reflectio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On seas of Jap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Warm soup in a bow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letters of the alphabe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hang on the teaspoon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5:11:17Z</dcterms:created>
  <dc:creator>Customer</dc:creator>
  <dc:description/>
  <dc:language>en-US</dc:language>
  <cp:lastModifiedBy>Angie McCall</cp:lastModifiedBy>
  <dcterms:modified xsi:type="dcterms:W3CDTF">2011-11-02T17:24:05Z</dcterms:modified>
  <cp:revision>6</cp:revision>
  <dc:subject/>
  <dc:title>Haiku  Poetry</dc:title>
</cp:coreProperties>
</file>